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png" ContentType="image/png"/>
  <Override PartName="/ppt/media/image1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2AE-0C34-4325-A88E-E544D5B5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9BB-894E-4576-8277-E42D2CF6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0B2-EB69-4AF1-8EDE-470479CA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089-9657-46D1-A601-2CCEF007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0BB-8B91-4BDC-A91F-E4267A00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A1B-D2CF-4F98-924A-303FA46A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925-F343-45DF-AC24-9174C9D1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6CF-BE25-438A-A507-0855BBFC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E42-546C-4A0D-92D8-8F64EB2B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6CD-E953-473E-9F34-5C56D007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6AA-68BC-48DB-BE43-14A46742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A60-34C0-4886-A6D1-DD9A70A2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9AC2-EDAE-4D12-A401-ADD68772E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ehavioradvisor.com//assertivediscipline.html" TargetMode="External"/><Relationship Id="rId3" Type="http://schemas.openxmlformats.org/officeDocument/2006/relationships/hyperlink" Target="http://www.angelfire.com/in4/kfluhart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aperbackswap.com/High-Performing-Teacher-Avoiding-Burnout/book/0939007827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aperbackswap.com/Teaching-Students-Along-Lee-Canter/book/0939007991/" TargetMode="External"/><Relationship Id="rId3" Type="http://schemas.openxmlformats.org/officeDocument/2006/relationships/hyperlink" Target="http://www.paperbackswap.com/Teaching-Students-Along-Lee-Canter/book/0939007991/" TargetMode="External"/><Relationship Id="rId4" Type="http://schemas.openxmlformats.org/officeDocument/2006/relationships/hyperlink" Target="http://www.paperbackswap.com/Teaching-Students-Along-Lee-Canter/book/0939007991/" TargetMode="External"/><Relationship Id="rId5" Type="http://schemas.openxmlformats.org/officeDocument/2006/relationships/hyperlink" Target="http://www.paperbackswap.com/Behavior-Management-Middle-Lee-Canter/book/1572710039/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sroom Management Theor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LEE CAN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24080" y="4987800"/>
            <a:ext cx="2862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rtive teacher is alway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367080" y="3146400"/>
            <a:ext cx="2409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courag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562720" y="4191120"/>
            <a:ext cx="228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model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5120" y="4343400"/>
            <a:ext cx="2533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acticing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2362320"/>
            <a:ext cx="242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view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4120" y="2209680"/>
            <a:ext cx="2504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ewarding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352680"/>
            <a:ext cx="261000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describ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use Lee Canter’s asssertive discip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4 or 5 rules that you want to implement in your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negative consequences for students who do not ob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itive consequences for students who do ob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meeting with the students to discuss and go over the rules. Go over them throughout th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 students take the rules home, have parents sign the rules, and ask for their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the rules immediately in your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let the student know if you are not happy with their behavior but at the same time, let them know what they should be d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“positive repetitions”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“proximity prai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rtive teachers will teach children how to behave correctly by modeling and role play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ter’s work of research to create this method has no references or citations li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ter assumes that this method will work with al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not given any ch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good cla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expectations are clearly st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are also clearly st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build classroom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, caring and productive learning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Canter’s model work in the real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 do believe that this model will work in the real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ehavioradvisor.com//assertivedisciplin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angelfire.com/in4/kflu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teachermatters.com/classroom-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lue Highway"/>
              </a:rPr>
              <a:t>Who is Lee Cant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Canter is president of Lee Canter and associates in Santa Monica, California. This was founded with his wife, Marlene, in 197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ter is an author and motivational speaker on how to discipline children in the home and school are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presently the author of many books based on discip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287000" y="9524880"/>
            <a:ext cx="2919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Sun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Canter has been a frequent speaker on shows such as Oprah, Good morning America, and the Today Sh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and Marlene used their company to market their assertive disciplin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rovided professional development training for teachers and materials that could be used fo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Sun"/>
              </a:rPr>
              <a:t>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- Assertive Discipline Positive Behavior Management for Today’s classro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- Classroom Management for Accelerating Achie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- Parents on your side a Teacher’s guide to Creating positive relationships with pa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- Succeeding with difficult students workbook Grades K-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- Classroom Management for Academic Su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- Record Book P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2- Lee Canter’s teaching Responsible Behavior Curriculum Gu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2- Assertive discipline Secondary workbook Grades 6-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2- Parents on your side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ition a Teacher’s Guide to creating Positive Relationships with Pa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2- Assertive Discipline Elementary Workbook grades K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1- Assertive Discipline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ition Positive Behavior Management for Today’s 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1- Parents on your 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 Assertive discipline Third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 Teacher’s plan book Plus 3 Homework without t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 Teacher’s Plan book Plus 2 Assertive 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 Teacher’s Plan Book plus 5 Motivating today’s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 teacher’s Plan book Plus 7 reading and Literacy A to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8- First class teacher success strategies for new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High Performing Teacher Avoiding Burnout and Increasing Your Motiv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aching Students to Get Along Reducing Conflict and Increas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pperatio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in the Classro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ehavior Management in the Middle School Classroom a Teacher's Guide to Meeting the Special Challenges of Early Adolesc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3- Lee Canter’s Assertive discipline fo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er’s Model of Discip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ter's model of Discipline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sertive Discip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467480" y="5084640"/>
            <a:ext cx="914400" cy="1209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35040" y="4970520"/>
            <a:ext cx="81936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179960" y="355608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ondi"/>
              </a:rPr>
              <a:t>Main ideas of assertive Discip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rtive Discipline is a structured Systematic approach designed to assist educators in running an organized classroom environment that is completely controlled by the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nters believe that teachers need to expect nothing but compliance. It is imperative. No student should keep you from teaching and this is why teachers should act asser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ue Highway"/>
              </a:rPr>
              <a:t>Main idea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rtive teachers give firm, clear and concise directions to students. Students who obey the rules are reinforced whereas those who do not obey the rules will receive negative consequ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rtive teachers do not act in a sarcastic or harsh way to their students. They are demanding yet they are still supportive and respectful of their students. They treat everyone fair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09:08:37Z</dcterms:created>
  <dc:creator>Maria</dc:creator>
  <dc:description/>
  <dc:language>en-US</dc:language>
  <cp:lastModifiedBy>Maria</cp:lastModifiedBy>
  <dcterms:modified xsi:type="dcterms:W3CDTF">2012-06-12T11:36:36Z</dcterms:modified>
  <cp:revision>3</cp:revision>
  <dc:subject/>
  <dc:title>Classroom Management Theorist</dc:title>
</cp:coreProperties>
</file>